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8288000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62A-44E4-4266-832B-E97CD5C3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C75-3C64-4A80-987C-FB50F4F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B4B-D3E8-41CA-BB42-E7DFC63C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620-8DBF-4778-B188-77434804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8A8-8E51-45D9-91AA-3D34CAB5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6CBF-8C14-4FEF-BA7A-430276CB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CC4B-B1B1-4378-ABDE-D4D5F950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0714-4C32-4073-9994-7096887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3115-8992-42BF-8B28-CF513893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FCB8-F6F2-4AA8-8EBB-6C4C37D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DFC-141E-4A4D-89D6-EA3DD0D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F8A-D425-4E61-89AD-77D02A4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4D2-D2A6-4575-AF7C-C83450F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FCC-4CD2-41C0-9832-D48683BF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1E7A-F233-412D-B90D-AC99FA9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3117-2DA3-41FE-9E3C-519895A4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47928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044160" y="259056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47928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2044160" y="7637040"/>
            <a:ext cx="52995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A14B-977B-48DE-A856-48FA6FF1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E6C-DBB7-46C8-8B1A-9AE95F5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225-A606-483C-B1B9-4DC67D3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FE-B4D8-4050-B208-05791211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7640" y="479160"/>
            <a:ext cx="15548040" cy="63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75F-67AA-4762-AA0D-CA1A751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E66-2128-4B5C-A504-FF249E2A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8480" y="763704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06E-C5B9-445C-BED0-36CB937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7640" y="406080"/>
            <a:ext cx="15548040" cy="1523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8480" y="2590560"/>
            <a:ext cx="803196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7637040"/>
            <a:ext cx="16459200" cy="4608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BDD-A784-46B1-B569-E314423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DVD13  2(25)"/>
          <p:cNvPicPr/>
          <p:nvPr/>
        </p:nvPicPr>
        <p:blipFill>
          <a:blip r:embed="rId2"/>
          <a:srcRect l="0" t="0" r="0" b="29736"/>
          <a:stretch/>
        </p:blipFill>
        <p:spPr>
          <a:xfrm>
            <a:off x="0" y="-1168560"/>
            <a:ext cx="18288000" cy="14884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4" descr="7"/>
          <p:cNvPicPr/>
          <p:nvPr/>
        </p:nvPicPr>
        <p:blipFill>
          <a:blip r:embed="rId3"/>
          <a:stretch/>
        </p:blipFill>
        <p:spPr>
          <a:xfrm>
            <a:off x="914400" y="2362320"/>
            <a:ext cx="16681320" cy="1135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04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248520" y="12490560"/>
            <a:ext cx="579096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3106160" y="12490560"/>
            <a:ext cx="4267080" cy="9525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8D6D30-5E50-4767-B429-363E8AB28D57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11"/>
          <p:cNvPicPr/>
          <p:nvPr/>
        </p:nvPicPr>
        <p:blipFill>
          <a:blip r:embed="rId4"/>
          <a:srcRect l="0" t="0" r="0" b="16506"/>
          <a:stretch/>
        </p:blipFill>
        <p:spPr>
          <a:xfrm rot="10395000">
            <a:off x="3352680" y="12448440"/>
            <a:ext cx="1720800" cy="809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pic>
        <p:nvPicPr>
          <p:cNvPr id="8" name="Picture 21" descr="DVD13 (25)"/>
          <p:cNvPicPr/>
          <p:nvPr/>
        </p:nvPicPr>
        <p:blipFill>
          <a:blip r:embed="rId5"/>
          <a:stretch/>
        </p:blipFill>
        <p:spPr>
          <a:xfrm rot="4500000">
            <a:off x="1182600" y="10936080"/>
            <a:ext cx="154620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8" descr="D:\Picture1.png"/>
          <p:cNvPicPr/>
          <p:nvPr/>
        </p:nvPicPr>
        <p:blipFill>
          <a:blip r:embed="rId2"/>
          <a:srcRect l="8654" t="3974" r="0" b="3984"/>
          <a:stretch/>
        </p:blipFill>
        <p:spPr>
          <a:xfrm>
            <a:off x="0" y="0"/>
            <a:ext cx="1756260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6"/>
          <p:cNvSpPr/>
          <p:nvPr/>
        </p:nvSpPr>
        <p:spPr>
          <a:xfrm>
            <a:off x="-27000" y="0"/>
            <a:ext cx="18288000" cy="13716000"/>
          </a:xfrm>
          <a:prstGeom prst="rect">
            <a:avLst/>
          </a:prstGeom>
          <a:solidFill>
            <a:srgbClr val="8c948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2584440" y="1305000"/>
            <a:ext cx="15703200" cy="11343960"/>
            <a:chOff x="2584440" y="1305000"/>
            <a:chExt cx="15703200" cy="11343960"/>
          </a:xfrm>
        </p:grpSpPr>
        <p:pic>
          <p:nvPicPr>
            <p:cNvPr id="48" name="Picture 27" descr="DVD13  2(25)"/>
            <p:cNvPicPr/>
            <p:nvPr/>
          </p:nvPicPr>
          <p:blipFill>
            <a:blip r:embed="rId3"/>
            <a:stretch/>
          </p:blipFill>
          <p:spPr>
            <a:xfrm>
              <a:off x="2584440" y="1305000"/>
              <a:ext cx="15703200" cy="113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9" descr="7"/>
            <p:cNvPicPr/>
            <p:nvPr/>
          </p:nvPicPr>
          <p:blipFill>
            <a:blip r:embed="rId4"/>
            <a:stretch/>
          </p:blipFill>
          <p:spPr>
            <a:xfrm flipH="1" rot="10800000">
              <a:off x="5547600" y="1782360"/>
              <a:ext cx="12739680" cy="1034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DVD13 (25)"/>
          <p:cNvPicPr/>
          <p:nvPr/>
        </p:nvPicPr>
        <p:blipFill>
          <a:blip r:embed="rId5"/>
          <a:stretch/>
        </p:blipFill>
        <p:spPr>
          <a:xfrm>
            <a:off x="5105520" y="4114800"/>
            <a:ext cx="3539880" cy="9601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914400" y="2590560"/>
            <a:ext cx="16459200" cy="9661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720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3" marL="3200400" indent="-45720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4" marL="4114800" indent="-45720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5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lvl="6" marL="4114800" indent="-457200">
              <a:spcBef>
                <a:spcPts val="1599"/>
              </a:spcBef>
              <a:buClr>
                <a:srgbClr val="b2b9af"/>
              </a:buClr>
              <a:buFont typeface="Arial"/>
              <a:buChar char="»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he title text format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2280" y="17068320"/>
            <a:ext cx="243864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74284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5333760" y="17068320"/>
            <a:ext cx="2438280" cy="489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Autofit/>
          </a:bodyPr>
          <a:lstStyle>
            <a:lvl1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BAE617-F2ED-4852-8A33-83F8F54C9724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Text Box 19_pptX"/>
          <p:cNvPicPr/>
          <p:nvPr/>
        </p:nvPicPr>
        <p:blipFill>
          <a:blip r:embed="rId1">
            <a:lum bright="-48000"/>
          </a:blip>
          <a:srcRect l="0" t="0" r="6322" b="0"/>
          <a:stretch/>
        </p:blipFill>
        <p:spPr>
          <a:xfrm>
            <a:off x="6286680" y="2484360"/>
            <a:ext cx="11877480" cy="268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icture8"/>
          <p:cNvPicPr/>
          <p:nvPr/>
        </p:nvPicPr>
        <p:blipFill>
          <a:blip r:embed="rId2"/>
          <a:srcRect l="34179" t="59660" r="0" b="0"/>
          <a:stretch/>
        </p:blipFill>
        <p:spPr>
          <a:xfrm>
            <a:off x="12344400" y="5029200"/>
            <a:ext cx="5562720" cy="235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121240" y="5943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17"/>
          <p:cNvSpPr/>
          <p:nvPr/>
        </p:nvSpPr>
        <p:spPr>
          <a:xfrm>
            <a:off x="1828800" y="4076640"/>
            <a:ext cx="14478120" cy="84200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4076640" y="9267840"/>
            <a:ext cx="10178640" cy="942480"/>
            <a:chOff x="4076640" y="9267840"/>
            <a:chExt cx="10178640" cy="942480"/>
          </a:xfrm>
        </p:grpSpPr>
        <p:sp>
          <p:nvSpPr>
            <p:cNvPr id="97" name="AutoShape 3"/>
            <p:cNvSpPr/>
            <p:nvPr/>
          </p:nvSpPr>
          <p:spPr>
            <a:xfrm>
              <a:off x="4076640" y="92678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98" name="AutoShape 4"/>
            <p:cNvSpPr/>
            <p:nvPr/>
          </p:nvSpPr>
          <p:spPr>
            <a:xfrm>
              <a:off x="4108320" y="92847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4076640" y="7943760"/>
            <a:ext cx="10178640" cy="942840"/>
            <a:chOff x="4076640" y="7943760"/>
            <a:chExt cx="10178640" cy="942840"/>
          </a:xfrm>
        </p:grpSpPr>
        <p:sp>
          <p:nvSpPr>
            <p:cNvPr id="100" name="AutoShape 6"/>
            <p:cNvSpPr/>
            <p:nvPr/>
          </p:nvSpPr>
          <p:spPr>
            <a:xfrm>
              <a:off x="4076640" y="794376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>
              <a:off x="4108320" y="79606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4076640" y="10528200"/>
            <a:ext cx="10178640" cy="942840"/>
            <a:chOff x="4076640" y="10528200"/>
            <a:chExt cx="10178640" cy="942840"/>
          </a:xfrm>
        </p:grpSpPr>
        <p:sp>
          <p:nvSpPr>
            <p:cNvPr id="103" name="AutoShape 9"/>
            <p:cNvSpPr/>
            <p:nvPr/>
          </p:nvSpPr>
          <p:spPr>
            <a:xfrm>
              <a:off x="4076640" y="10528200"/>
              <a:ext cx="10178640" cy="9428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4108320" y="1054512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4076640" y="6632640"/>
            <a:ext cx="10178640" cy="942480"/>
            <a:chOff x="4076640" y="6632640"/>
            <a:chExt cx="10178640" cy="942480"/>
          </a:xfrm>
        </p:grpSpPr>
        <p:sp>
          <p:nvSpPr>
            <p:cNvPr id="106" name="AutoShape 12"/>
            <p:cNvSpPr/>
            <p:nvPr/>
          </p:nvSpPr>
          <p:spPr>
            <a:xfrm>
              <a:off x="4076640" y="663264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4108320" y="664956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08" name="Group 14"/>
          <p:cNvGrpSpPr/>
          <p:nvPr/>
        </p:nvGrpSpPr>
        <p:grpSpPr>
          <a:xfrm>
            <a:off x="4076640" y="5308560"/>
            <a:ext cx="10178640" cy="942480"/>
            <a:chOff x="4076640" y="5308560"/>
            <a:chExt cx="10178640" cy="942480"/>
          </a:xfrm>
        </p:grpSpPr>
        <p:sp>
          <p:nvSpPr>
            <p:cNvPr id="109" name="AutoShape 15"/>
            <p:cNvSpPr/>
            <p:nvPr/>
          </p:nvSpPr>
          <p:spPr>
            <a:xfrm>
              <a:off x="4076640" y="5308560"/>
              <a:ext cx="10178640" cy="94248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4108320" y="5325480"/>
              <a:ext cx="10118880" cy="4233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5676840" y="669924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676840" y="798840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5676840" y="931860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5676840" y="10604520"/>
            <a:ext cx="7010640" cy="76212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2438280" y="3546360"/>
            <a:ext cx="13106520" cy="11368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3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5676840" y="5369040"/>
            <a:ext cx="7010640" cy="7617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ctr">
            <a:no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8000" y="479520"/>
            <a:ext cx="15544800" cy="12794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ontents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Hot Tip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0800" y="3543480"/>
            <a:ext cx="15268680" cy="61308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marL="685800" indent="-685800">
              <a:spcBef>
                <a:spcPts val="14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5600" spc="-1" strike="noStrike">
                <a:solidFill>
                  <a:srgbClr val="4f506d"/>
                </a:solidFill>
                <a:latin typeface="Arial"/>
              </a:rPr>
              <a:t>How do I incorporate my logo to a slide that will apply to all the other slides?</a:t>
            </a:r>
            <a:r>
              <a:rPr b="0" lang="en-US" sz="5600" spc="-1" strike="noStrike">
                <a:solidFill>
                  <a:srgbClr val="4f506d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400"/>
              </a:spcBef>
              <a:buNone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lvl="1" marL="1486080" indent="-5716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95480" y="10147320"/>
            <a:ext cx="1264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age : www.openas.com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612800" y="3724200"/>
            <a:ext cx="150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963d00"/>
              </a:buClr>
              <a:buFont typeface="Wingdings" charset="2"/>
              <a:buChar char=""/>
              <a:tabLst>
                <a:tab algn="l" pos="892188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s a Design Digital Content &amp; Contents mall developed by Guild Design Inc.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860480" y="5330880"/>
            <a:ext cx="6197760" cy="6861240"/>
          </a:xfrm>
          <a:custGeom>
            <a:avLst/>
            <a:gdLst>
              <a:gd name="textAreaLeft" fmla="*/ 172080 w 6197760"/>
              <a:gd name="textAreaRight" fmla="*/ 6025680 w 6197760"/>
              <a:gd name="textAreaTop" fmla="*/ 172080 h 6861240"/>
              <a:gd name="textAreaBottom" fmla="*/ 6689160 h 6861240"/>
            </a:gdLst>
            <a:ahLst/>
            <a:rect l="textAreaLeft" t="textAreaTop" r="textAreaRight" b="textAreaBottom"/>
            <a:pathLst>
              <a:path w="21600" h="23912">
                <a:moveTo>
                  <a:pt x="2048" y="0"/>
                </a:moveTo>
                <a:arcTo wR="2048" hR="2048" stAng="16200000" swAng="-5400000"/>
                <a:lnTo>
                  <a:pt x="0" y="21864"/>
                </a:lnTo>
                <a:arcTo wR="2048" hR="2048" stAng="10800000" swAng="-5400000"/>
                <a:lnTo>
                  <a:pt x="19552" y="23912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 rot="16200000">
            <a:off x="903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 rot="16200000">
            <a:off x="162396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 rot="16200000">
            <a:off x="3116160" y="7954200"/>
            <a:ext cx="5375160" cy="997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 rot="16200000">
            <a:off x="4535640" y="7954560"/>
            <a:ext cx="5375160" cy="996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352600" y="7232400"/>
            <a:ext cx="847440" cy="3850920"/>
            <a:chOff x="2352600" y="7232400"/>
            <a:chExt cx="847440" cy="3850920"/>
          </a:xfrm>
        </p:grpSpPr>
        <p:sp>
          <p:nvSpPr>
            <p:cNvPr id="128" name="AutoShape 9"/>
            <p:cNvSpPr/>
            <p:nvPr/>
          </p:nvSpPr>
          <p:spPr>
            <a:xfrm rot="16200000">
              <a:off x="850680" y="8733960"/>
              <a:ext cx="3850920" cy="847440"/>
            </a:xfrm>
            <a:prstGeom prst="roundRect">
              <a:avLst>
                <a:gd name="adj" fmla="val 50000"/>
              </a:avLst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 rot="16200000">
              <a:off x="1031040" y="8854560"/>
              <a:ext cx="36990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3889440" y="6413400"/>
            <a:ext cx="847440" cy="4656960"/>
            <a:chOff x="3889440" y="6413400"/>
            <a:chExt cx="847440" cy="4656960"/>
          </a:xfrm>
        </p:grpSpPr>
        <p:sp>
          <p:nvSpPr>
            <p:cNvPr id="131" name="AutoShape 12"/>
            <p:cNvSpPr/>
            <p:nvPr/>
          </p:nvSpPr>
          <p:spPr>
            <a:xfrm rot="16200000">
              <a:off x="1984680" y="8318160"/>
              <a:ext cx="4656960" cy="847440"/>
            </a:xfrm>
            <a:prstGeom prst="roundRect">
              <a:avLst>
                <a:gd name="adj" fmla="val 50000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2" name="AutoShape 13"/>
            <p:cNvSpPr/>
            <p:nvPr/>
          </p:nvSpPr>
          <p:spPr>
            <a:xfrm rot="16200000">
              <a:off x="2180880" y="8438400"/>
              <a:ext cx="4473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1836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5384880" y="9502920"/>
            <a:ext cx="847440" cy="1574640"/>
            <a:chOff x="5384880" y="9502920"/>
            <a:chExt cx="847440" cy="1574640"/>
          </a:xfrm>
        </p:grpSpPr>
        <p:sp>
          <p:nvSpPr>
            <p:cNvPr id="134" name="AutoShape 15"/>
            <p:cNvSpPr/>
            <p:nvPr/>
          </p:nvSpPr>
          <p:spPr>
            <a:xfrm rot="16200000">
              <a:off x="5021280" y="9866520"/>
              <a:ext cx="1574640" cy="847440"/>
            </a:xfrm>
            <a:prstGeom prst="roundRect">
              <a:avLst>
                <a:gd name="adj" fmla="val 50000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5" name="AutoShape 16"/>
            <p:cNvSpPr/>
            <p:nvPr/>
          </p:nvSpPr>
          <p:spPr>
            <a:xfrm rot="16200000">
              <a:off x="5156640" y="9988560"/>
              <a:ext cx="151236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6797520" y="8127720"/>
            <a:ext cx="847440" cy="2936520"/>
            <a:chOff x="6797520" y="8127720"/>
            <a:chExt cx="847440" cy="2936520"/>
          </a:xfrm>
        </p:grpSpPr>
        <p:sp>
          <p:nvSpPr>
            <p:cNvPr id="137" name="AutoShape 18"/>
            <p:cNvSpPr/>
            <p:nvPr/>
          </p:nvSpPr>
          <p:spPr>
            <a:xfrm rot="16200000">
              <a:off x="5752800" y="9172080"/>
              <a:ext cx="2936520" cy="847440"/>
            </a:xfrm>
            <a:prstGeom prst="roundRect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38" name="AutoShape 19"/>
            <p:cNvSpPr/>
            <p:nvPr/>
          </p:nvSpPr>
          <p:spPr>
            <a:xfrm rot="16200000">
              <a:off x="5915160" y="9293760"/>
              <a:ext cx="2820600" cy="59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39" name="Text Box 20"/>
          <p:cNvSpPr/>
          <p:nvPr/>
        </p:nvSpPr>
        <p:spPr>
          <a:xfrm>
            <a:off x="2425680" y="11182320"/>
            <a:ext cx="5626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      B       C       D</a:t>
            </a:r>
            <a:endParaRPr b="0" lang="en-US" sz="4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2229480" y="64580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3769200" y="59119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286960" y="881064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719040" y="7458120"/>
            <a:ext cx="107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5%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8839080" y="588312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45" name="Group 26"/>
          <p:cNvGrpSpPr/>
          <p:nvPr/>
        </p:nvGrpSpPr>
        <p:grpSpPr>
          <a:xfrm>
            <a:off x="8753400" y="5921280"/>
            <a:ext cx="1104480" cy="1168200"/>
            <a:chOff x="8753400" y="5921280"/>
            <a:chExt cx="1104480" cy="1168200"/>
          </a:xfrm>
        </p:grpSpPr>
        <p:grpSp>
          <p:nvGrpSpPr>
            <p:cNvPr id="146" name="Group 27"/>
            <p:cNvGrpSpPr/>
            <p:nvPr/>
          </p:nvGrpSpPr>
          <p:grpSpPr>
            <a:xfrm>
              <a:off x="8753400" y="5921280"/>
              <a:ext cx="1104480" cy="1168200"/>
              <a:chOff x="8753400" y="5921280"/>
              <a:chExt cx="1104480" cy="1168200"/>
            </a:xfrm>
          </p:grpSpPr>
          <p:pic>
            <p:nvPicPr>
              <p:cNvPr id="147" name="Picture 28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8858160" y="6837120"/>
                <a:ext cx="9093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29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753400" y="5921280"/>
                <a:ext cx="1104480" cy="107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Oval 30"/>
              <p:cNvSpPr/>
              <p:nvPr/>
            </p:nvSpPr>
            <p:spPr>
              <a:xfrm>
                <a:off x="8753400" y="5921280"/>
                <a:ext cx="1096920" cy="1081080"/>
              </a:xfrm>
              <a:prstGeom prst="ellipse">
                <a:avLst/>
              </a:prstGeom>
              <a:gradFill rotWithShape="0">
                <a:gsLst>
                  <a:gs pos="0">
                    <a:srgbClr val="272e3e">
                      <a:alpha val="90196"/>
                    </a:srgbClr>
                  </a:gs>
                  <a:gs pos="50000">
                    <a:srgbClr val="6b7fad">
                      <a:alpha val="55294"/>
                    </a:srgbClr>
                  </a:gs>
                  <a:gs pos="100000">
                    <a:srgbClr val="272e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0" name="Picture 31" descr="Picture2"/>
            <p:cNvPicPr/>
            <p:nvPr/>
          </p:nvPicPr>
          <p:blipFill>
            <a:blip r:embed="rId3"/>
            <a:stretch/>
          </p:blipFill>
          <p:spPr>
            <a:xfrm>
              <a:off x="8863200" y="593100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32"/>
          <p:cNvSpPr/>
          <p:nvPr/>
        </p:nvSpPr>
        <p:spPr>
          <a:xfrm>
            <a:off x="10063080" y="608652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52" name="AutoShape 33"/>
          <p:cNvSpPr/>
          <p:nvPr/>
        </p:nvSpPr>
        <p:spPr>
          <a:xfrm>
            <a:off x="8839080" y="74199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53" name="Group 34"/>
          <p:cNvGrpSpPr/>
          <p:nvPr/>
        </p:nvGrpSpPr>
        <p:grpSpPr>
          <a:xfrm>
            <a:off x="8753400" y="7458120"/>
            <a:ext cx="1104480" cy="1167480"/>
            <a:chOff x="8753400" y="7458120"/>
            <a:chExt cx="1104480" cy="1167480"/>
          </a:xfrm>
        </p:grpSpPr>
        <p:grpSp>
          <p:nvGrpSpPr>
            <p:cNvPr id="154" name="Group 35"/>
            <p:cNvGrpSpPr/>
            <p:nvPr/>
          </p:nvGrpSpPr>
          <p:grpSpPr>
            <a:xfrm>
              <a:off x="8753400" y="7458120"/>
              <a:ext cx="1104480" cy="1167480"/>
              <a:chOff x="8753400" y="7458120"/>
              <a:chExt cx="1104480" cy="1167480"/>
            </a:xfrm>
          </p:grpSpPr>
          <p:pic>
            <p:nvPicPr>
              <p:cNvPr id="155" name="Picture 36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8858160" y="83736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3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8753400" y="74581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val 38"/>
              <p:cNvSpPr/>
              <p:nvPr/>
            </p:nvSpPr>
            <p:spPr>
              <a:xfrm>
                <a:off x="8753400" y="74581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a2f24">
                      <a:alpha val="90196"/>
                    </a:srgbClr>
                  </a:gs>
                  <a:gs pos="50000">
                    <a:srgbClr val="a18363">
                      <a:alpha val="55294"/>
                    </a:srgbClr>
                  </a:gs>
                  <a:gs pos="100000">
                    <a:srgbClr val="3a2f24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58" name="Picture 39" descr="Picture2"/>
            <p:cNvPicPr/>
            <p:nvPr/>
          </p:nvPicPr>
          <p:blipFill>
            <a:blip r:embed="rId6"/>
            <a:stretch/>
          </p:blipFill>
          <p:spPr>
            <a:xfrm>
              <a:off x="8863200" y="74678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40"/>
          <p:cNvSpPr/>
          <p:nvPr/>
        </p:nvSpPr>
        <p:spPr>
          <a:xfrm>
            <a:off x="10063080" y="76230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0" name="AutoShape 41"/>
          <p:cNvSpPr/>
          <p:nvPr/>
        </p:nvSpPr>
        <p:spPr>
          <a:xfrm>
            <a:off x="8839080" y="8972640"/>
            <a:ext cx="8077320" cy="11840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1" name="Group 42"/>
          <p:cNvGrpSpPr/>
          <p:nvPr/>
        </p:nvGrpSpPr>
        <p:grpSpPr>
          <a:xfrm>
            <a:off x="8753400" y="9010800"/>
            <a:ext cx="1104480" cy="1167480"/>
            <a:chOff x="8753400" y="9010800"/>
            <a:chExt cx="1104480" cy="1167480"/>
          </a:xfrm>
        </p:grpSpPr>
        <p:grpSp>
          <p:nvGrpSpPr>
            <p:cNvPr id="162" name="Group 43"/>
            <p:cNvGrpSpPr/>
            <p:nvPr/>
          </p:nvGrpSpPr>
          <p:grpSpPr>
            <a:xfrm>
              <a:off x="8753400" y="9010800"/>
              <a:ext cx="1104480" cy="1167480"/>
              <a:chOff x="8753400" y="9010800"/>
              <a:chExt cx="1104480" cy="1167480"/>
            </a:xfrm>
          </p:grpSpPr>
          <p:pic>
            <p:nvPicPr>
              <p:cNvPr id="163" name="Picture 44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8858160" y="992628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45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8753400" y="901080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Oval 46"/>
              <p:cNvSpPr/>
              <p:nvPr/>
            </p:nvSpPr>
            <p:spPr>
              <a:xfrm>
                <a:off x="8753400" y="901080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c2829">
                      <a:alpha val="90196"/>
                    </a:srgbClr>
                  </a:gs>
                  <a:gs pos="50000">
                    <a:srgbClr val="a56f73">
                      <a:alpha val="55294"/>
                    </a:srgbClr>
                  </a:gs>
                  <a:gs pos="100000">
                    <a:srgbClr val="3c282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66" name="Picture 47" descr="Picture2"/>
            <p:cNvPicPr/>
            <p:nvPr/>
          </p:nvPicPr>
          <p:blipFill>
            <a:blip r:embed="rId9"/>
            <a:stretch/>
          </p:blipFill>
          <p:spPr>
            <a:xfrm>
              <a:off x="8863200" y="902052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Rectangle 48"/>
          <p:cNvSpPr/>
          <p:nvPr/>
        </p:nvSpPr>
        <p:spPr>
          <a:xfrm>
            <a:off x="10063080" y="917568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68" name="AutoShape 49"/>
          <p:cNvSpPr/>
          <p:nvPr/>
        </p:nvSpPr>
        <p:spPr>
          <a:xfrm>
            <a:off x="8839080" y="10445760"/>
            <a:ext cx="8077320" cy="11844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69" name="Group 50"/>
          <p:cNvGrpSpPr/>
          <p:nvPr/>
        </p:nvGrpSpPr>
        <p:grpSpPr>
          <a:xfrm>
            <a:off x="8753400" y="10483920"/>
            <a:ext cx="1104480" cy="1167480"/>
            <a:chOff x="8753400" y="10483920"/>
            <a:chExt cx="1104480" cy="1167480"/>
          </a:xfrm>
        </p:grpSpPr>
        <p:grpSp>
          <p:nvGrpSpPr>
            <p:cNvPr id="170" name="Group 51"/>
            <p:cNvGrpSpPr/>
            <p:nvPr/>
          </p:nvGrpSpPr>
          <p:grpSpPr>
            <a:xfrm>
              <a:off x="8753400" y="10483920"/>
              <a:ext cx="1104480" cy="1167480"/>
              <a:chOff x="8753400" y="10483920"/>
              <a:chExt cx="1104480" cy="1167480"/>
            </a:xfrm>
          </p:grpSpPr>
          <p:pic>
            <p:nvPicPr>
              <p:cNvPr id="171" name="Picture 52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8858160" y="11399400"/>
                <a:ext cx="90936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53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8753400" y="10483920"/>
                <a:ext cx="1104480" cy="10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Oval 54"/>
              <p:cNvSpPr/>
              <p:nvPr/>
            </p:nvSpPr>
            <p:spPr>
              <a:xfrm>
                <a:off x="8753400" y="10483920"/>
                <a:ext cx="1096920" cy="1080720"/>
              </a:xfrm>
              <a:prstGeom prst="ellipse">
                <a:avLst/>
              </a:prstGeom>
              <a:gradFill rotWithShape="0">
                <a:gsLst>
                  <a:gs pos="0">
                    <a:srgbClr val="333530">
                      <a:alpha val="90196"/>
                    </a:srgbClr>
                  </a:gs>
                  <a:gs pos="50000">
                    <a:srgbClr val="8c9484">
                      <a:alpha val="55294"/>
                    </a:srgbClr>
                  </a:gs>
                  <a:gs pos="100000">
                    <a:srgbClr val="3335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pic>
          <p:nvPicPr>
            <p:cNvPr id="174" name="Picture 55" descr="Picture2"/>
            <p:cNvPicPr/>
            <p:nvPr/>
          </p:nvPicPr>
          <p:blipFill>
            <a:blip r:embed="rId12"/>
            <a:stretch/>
          </p:blipFill>
          <p:spPr>
            <a:xfrm>
              <a:off x="8863200" y="10493640"/>
              <a:ext cx="873360" cy="38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Rectangle 56"/>
          <p:cNvSpPr/>
          <p:nvPr/>
        </p:nvSpPr>
        <p:spPr>
          <a:xfrm>
            <a:off x="10063080" y="10648800"/>
            <a:ext cx="6490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Description of  the contents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1515680" y="4546440"/>
            <a:ext cx="4334040" cy="5988240"/>
          </a:xfrm>
          <a:custGeom>
            <a:avLst/>
            <a:gdLst>
              <a:gd name="textAreaLeft" fmla="*/ 159480 w 4334040"/>
              <a:gd name="textAreaRight" fmla="*/ 4174560 w 4334040"/>
              <a:gd name="textAreaTop" fmla="*/ 159480 h 5988240"/>
              <a:gd name="textAreaBottom" fmla="*/ 5828760 h 5988240"/>
            </a:gdLst>
            <a:ahLst/>
            <a:rect l="textAreaLeft" t="textAreaTop" r="textAreaRight" b="textAreaBottom"/>
            <a:pathLst>
              <a:path w="21600" h="29844">
                <a:moveTo>
                  <a:pt x="2716" y="0"/>
                </a:moveTo>
                <a:arcTo wR="2716" hR="2716" stAng="16200000" swAng="-5400000"/>
                <a:lnTo>
                  <a:pt x="0" y="27128"/>
                </a:lnTo>
                <a:arcTo wR="2716" hR="2716" stAng="10800000" swAng="-5400000"/>
                <a:lnTo>
                  <a:pt x="18884" y="29844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1509200" y="8982000"/>
            <a:ext cx="4318200" cy="154008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547360" y="4565520"/>
            <a:ext cx="4260960" cy="154332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835680" y="5108400"/>
            <a:ext cx="4339440" cy="5425920"/>
            <a:chOff x="6835680" y="5108400"/>
            <a:chExt cx="4339440" cy="5425920"/>
          </a:xfrm>
        </p:grpSpPr>
        <p:sp>
          <p:nvSpPr>
            <p:cNvPr id="181" name="AutoShape 6"/>
            <p:cNvSpPr/>
            <p:nvPr/>
          </p:nvSpPr>
          <p:spPr>
            <a:xfrm>
              <a:off x="6841440" y="5108400"/>
              <a:ext cx="4333680" cy="5425920"/>
            </a:xfrm>
            <a:custGeom>
              <a:avLst/>
              <a:gdLst>
                <a:gd name="textAreaLeft" fmla="*/ 159480 w 4333680"/>
                <a:gd name="textAreaRight" fmla="*/ 4174200 w 4333680"/>
                <a:gd name="textAreaTop" fmla="*/ 159480 h 5425920"/>
                <a:gd name="textAreaBottom" fmla="*/ 5266440 h 5425920"/>
              </a:gdLst>
              <a:ahLst/>
              <a:rect l="textAreaLeft" t="textAreaTop" r="textAreaRight" b="textAreaBottom"/>
              <a:pathLst>
                <a:path w="21600" h="27044">
                  <a:moveTo>
                    <a:pt x="2716" y="0"/>
                  </a:moveTo>
                  <a:arcTo wR="2716" hR="2716" stAng="16200000" swAng="-5400000"/>
                  <a:lnTo>
                    <a:pt x="0" y="24328"/>
                  </a:lnTo>
                  <a:arcTo wR="2716" hR="2716" stAng="10800000" swAng="-5400000"/>
                  <a:lnTo>
                    <a:pt x="18884" y="27044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2" name="AutoShape 7"/>
            <p:cNvSpPr/>
            <p:nvPr/>
          </p:nvSpPr>
          <p:spPr>
            <a:xfrm>
              <a:off x="6835680" y="9126720"/>
              <a:ext cx="4336920" cy="139608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6855840" y="5126040"/>
              <a:ext cx="4299480" cy="139536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2222640" y="5918040"/>
            <a:ext cx="4339440" cy="4616280"/>
            <a:chOff x="2222640" y="5918040"/>
            <a:chExt cx="4339440" cy="4616280"/>
          </a:xfrm>
        </p:grpSpPr>
        <p:sp>
          <p:nvSpPr>
            <p:cNvPr id="185" name="AutoShape 10"/>
            <p:cNvSpPr/>
            <p:nvPr/>
          </p:nvSpPr>
          <p:spPr>
            <a:xfrm>
              <a:off x="2227680" y="5918040"/>
              <a:ext cx="4334400" cy="4616280"/>
            </a:xfrm>
            <a:custGeom>
              <a:avLst/>
              <a:gdLst>
                <a:gd name="textAreaLeft" fmla="*/ 159480 w 4334400"/>
                <a:gd name="textAreaRight" fmla="*/ 4174920 w 4334400"/>
                <a:gd name="textAreaTop" fmla="*/ 159480 h 4616280"/>
                <a:gd name="textAreaBottom" fmla="*/ 4456800 h 4616280"/>
              </a:gdLst>
              <a:ahLst/>
              <a:rect l="textAreaLeft" t="textAreaTop" r="textAreaRight" b="textAreaBottom"/>
              <a:pathLst>
                <a:path w="21600" h="23005">
                  <a:moveTo>
                    <a:pt x="2716" y="0"/>
                  </a:moveTo>
                  <a:arcTo wR="2716" hR="2716" stAng="16200000" swAng="-5400000"/>
                  <a:lnTo>
                    <a:pt x="0" y="20289"/>
                  </a:lnTo>
                  <a:arcTo wR="2716" hR="2716" stAng="10800000" swAng="-5400000"/>
                  <a:lnTo>
                    <a:pt x="18884" y="23005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222640" y="9336600"/>
              <a:ext cx="4336200" cy="11887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2280600" y="5932440"/>
              <a:ext cx="4260960" cy="11887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422440" y="8074080"/>
            <a:ext cx="39178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032600" y="7153200"/>
            <a:ext cx="39146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1709360" y="5851440"/>
            <a:ext cx="391464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  <a:p>
            <a:pPr marL="241200" indent="-241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489040" y="47372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289640" y="3727440"/>
            <a:ext cx="32133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2001680" y="3247920"/>
            <a:ext cx="321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57360" y="11096640"/>
            <a:ext cx="130748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4f506d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4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2476440" y="6102360"/>
            <a:ext cx="1117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7074000" y="5257800"/>
            <a:ext cx="1120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1684160" y="4708440"/>
            <a:ext cx="1120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36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1842920" y="3695400"/>
            <a:ext cx="4758840" cy="1215720"/>
            <a:chOff x="11842920" y="3695400"/>
            <a:chExt cx="4758840" cy="1215720"/>
          </a:xfrm>
        </p:grpSpPr>
        <p:sp>
          <p:nvSpPr>
            <p:cNvPr id="201" name="AutoShape 4"/>
            <p:cNvSpPr/>
            <p:nvPr/>
          </p:nvSpPr>
          <p:spPr>
            <a:xfrm>
              <a:off x="11842920" y="3708360"/>
              <a:ext cx="4758840" cy="12027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2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1188720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157122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7"/>
          <p:cNvGrpSpPr/>
          <p:nvPr/>
        </p:nvGrpSpPr>
        <p:grpSpPr>
          <a:xfrm>
            <a:off x="6797520" y="3695400"/>
            <a:ext cx="4759200" cy="1215720"/>
            <a:chOff x="6797520" y="3695400"/>
            <a:chExt cx="4759200" cy="1215720"/>
          </a:xfrm>
        </p:grpSpPr>
        <p:sp>
          <p:nvSpPr>
            <p:cNvPr id="205" name="AutoShape 8"/>
            <p:cNvSpPr/>
            <p:nvPr/>
          </p:nvSpPr>
          <p:spPr>
            <a:xfrm>
              <a:off x="6797520" y="3708360"/>
              <a:ext cx="475920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6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6819480" y="424476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1068300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11"/>
          <p:cNvGrpSpPr/>
          <p:nvPr/>
        </p:nvGrpSpPr>
        <p:grpSpPr>
          <a:xfrm>
            <a:off x="1828800" y="3695400"/>
            <a:ext cx="4758840" cy="1215720"/>
            <a:chOff x="1828800" y="3695400"/>
            <a:chExt cx="4758840" cy="1215720"/>
          </a:xfrm>
        </p:grpSpPr>
        <p:sp>
          <p:nvSpPr>
            <p:cNvPr id="209" name="AutoShape 12"/>
            <p:cNvSpPr/>
            <p:nvPr/>
          </p:nvSpPr>
          <p:spPr>
            <a:xfrm>
              <a:off x="1828800" y="3708360"/>
              <a:ext cx="4758840" cy="120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0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1866600" y="4226040"/>
              <a:ext cx="837720" cy="66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5711040" y="3695400"/>
              <a:ext cx="837720" cy="6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15"/>
          <p:cNvGrpSpPr/>
          <p:nvPr/>
        </p:nvGrpSpPr>
        <p:grpSpPr>
          <a:xfrm>
            <a:off x="1857240" y="4813200"/>
            <a:ext cx="4740120" cy="7530480"/>
            <a:chOff x="1857240" y="4813200"/>
            <a:chExt cx="4740120" cy="7530480"/>
          </a:xfrm>
        </p:grpSpPr>
        <p:sp>
          <p:nvSpPr>
            <p:cNvPr id="213" name="Rectangle 16"/>
            <p:cNvSpPr/>
            <p:nvPr/>
          </p:nvSpPr>
          <p:spPr>
            <a:xfrm>
              <a:off x="1857240" y="12215160"/>
              <a:ext cx="4740120" cy="12852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185724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095560" y="5140440"/>
            <a:ext cx="14146920" cy="5660280"/>
            <a:chOff x="2095560" y="5140440"/>
            <a:chExt cx="14146920" cy="5660280"/>
          </a:xfrm>
        </p:grpSpPr>
        <p:sp>
          <p:nvSpPr>
            <p:cNvPr id="216" name="Freeform 19"/>
            <p:cNvSpPr/>
            <p:nvPr/>
          </p:nvSpPr>
          <p:spPr>
            <a:xfrm>
              <a:off x="2354400" y="5391360"/>
              <a:ext cx="4161240" cy="517428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2223360" y="5885640"/>
              <a:ext cx="111600" cy="74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3231720" y="6213960"/>
              <a:ext cx="127800" cy="853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799600" y="6363360"/>
              <a:ext cx="321480" cy="197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4242960" y="7388280"/>
              <a:ext cx="518760" cy="22428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4669920" y="7559640"/>
              <a:ext cx="325080" cy="1087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2" name="Freeform 25"/>
            <p:cNvSpPr/>
            <p:nvPr/>
          </p:nvSpPr>
          <p:spPr>
            <a:xfrm>
              <a:off x="5014800" y="762876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3" name="Freeform 26"/>
            <p:cNvSpPr/>
            <p:nvPr/>
          </p:nvSpPr>
          <p:spPr>
            <a:xfrm>
              <a:off x="5198760" y="7636680"/>
              <a:ext cx="39240" cy="66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4" name="Freeform 27"/>
            <p:cNvSpPr/>
            <p:nvPr/>
          </p:nvSpPr>
          <p:spPr>
            <a:xfrm>
              <a:off x="4597560" y="5378040"/>
              <a:ext cx="591120" cy="2347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5" name="Freeform 28"/>
            <p:cNvSpPr/>
            <p:nvPr/>
          </p:nvSpPr>
          <p:spPr>
            <a:xfrm>
              <a:off x="4860360" y="5268600"/>
              <a:ext cx="479520" cy="1602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Freeform 29"/>
            <p:cNvSpPr/>
            <p:nvPr/>
          </p:nvSpPr>
          <p:spPr>
            <a:xfrm>
              <a:off x="5533560" y="5455800"/>
              <a:ext cx="765360" cy="5072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Freeform 30"/>
            <p:cNvSpPr/>
            <p:nvPr/>
          </p:nvSpPr>
          <p:spPr>
            <a:xfrm>
              <a:off x="5527080" y="5236560"/>
              <a:ext cx="144360" cy="986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8" name="Freeform 31"/>
            <p:cNvSpPr/>
            <p:nvPr/>
          </p:nvSpPr>
          <p:spPr>
            <a:xfrm>
              <a:off x="5251320" y="5423760"/>
              <a:ext cx="212760" cy="1119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9" name="Freeform 32"/>
            <p:cNvSpPr/>
            <p:nvPr/>
          </p:nvSpPr>
          <p:spPr>
            <a:xfrm>
              <a:off x="5474880" y="5445000"/>
              <a:ext cx="177120" cy="66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Freeform 33"/>
            <p:cNvSpPr/>
            <p:nvPr/>
          </p:nvSpPr>
          <p:spPr>
            <a:xfrm>
              <a:off x="5379480" y="5348520"/>
              <a:ext cx="209880" cy="9072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Freeform 34"/>
            <p:cNvSpPr/>
            <p:nvPr/>
          </p:nvSpPr>
          <p:spPr>
            <a:xfrm>
              <a:off x="5290920" y="5263200"/>
              <a:ext cx="144360" cy="640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2" name="Freeform 35"/>
            <p:cNvSpPr/>
            <p:nvPr/>
          </p:nvSpPr>
          <p:spPr>
            <a:xfrm>
              <a:off x="5664600" y="5271120"/>
              <a:ext cx="374400" cy="2055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3" name="Freeform 36"/>
            <p:cNvSpPr/>
            <p:nvPr/>
          </p:nvSpPr>
          <p:spPr>
            <a:xfrm>
              <a:off x="2095560" y="5925600"/>
              <a:ext cx="81720" cy="39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4" name="Freeform 37"/>
            <p:cNvSpPr/>
            <p:nvPr/>
          </p:nvSpPr>
          <p:spPr>
            <a:xfrm>
              <a:off x="4581360" y="72896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5" name="Freeform 38"/>
            <p:cNvSpPr/>
            <p:nvPr/>
          </p:nvSpPr>
          <p:spPr>
            <a:xfrm>
              <a:off x="4591080" y="7356240"/>
              <a:ext cx="52560" cy="32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6" name="Freeform 39"/>
            <p:cNvSpPr/>
            <p:nvPr/>
          </p:nvSpPr>
          <p:spPr>
            <a:xfrm>
              <a:off x="5261040" y="7709400"/>
              <a:ext cx="48960" cy="313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5668560" y="64166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5340240" y="5869440"/>
              <a:ext cx="12420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9" name="Freeform 42"/>
            <p:cNvSpPr/>
            <p:nvPr/>
          </p:nvSpPr>
          <p:spPr>
            <a:xfrm>
              <a:off x="5553000" y="5391360"/>
              <a:ext cx="127800" cy="475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0" name="Freeform 43"/>
            <p:cNvSpPr/>
            <p:nvPr/>
          </p:nvSpPr>
          <p:spPr>
            <a:xfrm>
              <a:off x="5760000" y="5679720"/>
              <a:ext cx="124920" cy="482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1" name="Freeform 44"/>
            <p:cNvSpPr/>
            <p:nvPr/>
          </p:nvSpPr>
          <p:spPr>
            <a:xfrm>
              <a:off x="5812920" y="5140440"/>
              <a:ext cx="2285280" cy="9237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6512400" y="56318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7441560" y="5808240"/>
              <a:ext cx="420480" cy="144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7773120" y="5372640"/>
              <a:ext cx="127800" cy="64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8656920" y="5287320"/>
              <a:ext cx="508320" cy="1681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8975160" y="5375160"/>
              <a:ext cx="157680" cy="5616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7" name="Freeform 50"/>
            <p:cNvSpPr/>
            <p:nvPr/>
          </p:nvSpPr>
          <p:spPr>
            <a:xfrm>
              <a:off x="8016480" y="6101640"/>
              <a:ext cx="357120" cy="35208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8" name="Freeform 51"/>
            <p:cNvSpPr/>
            <p:nvPr/>
          </p:nvSpPr>
          <p:spPr>
            <a:xfrm>
              <a:off x="7839360" y="6230160"/>
              <a:ext cx="226080" cy="1807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49" name="Freeform 52"/>
            <p:cNvSpPr/>
            <p:nvPr/>
          </p:nvSpPr>
          <p:spPr>
            <a:xfrm>
              <a:off x="13375440" y="9281880"/>
              <a:ext cx="1557000" cy="13215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0" name="Freeform 53"/>
            <p:cNvSpPr/>
            <p:nvPr/>
          </p:nvSpPr>
          <p:spPr>
            <a:xfrm>
              <a:off x="13858920" y="8584920"/>
              <a:ext cx="1046880" cy="56052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1" name="Freeform 54"/>
            <p:cNvSpPr/>
            <p:nvPr/>
          </p:nvSpPr>
          <p:spPr>
            <a:xfrm>
              <a:off x="13887720" y="8590320"/>
              <a:ext cx="1021680" cy="5630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>
              <a:off x="14643720" y="10645920"/>
              <a:ext cx="147240" cy="154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3" name="Freeform 56"/>
            <p:cNvSpPr/>
            <p:nvPr/>
          </p:nvSpPr>
          <p:spPr>
            <a:xfrm>
              <a:off x="15089760" y="10405800"/>
              <a:ext cx="538920" cy="2268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4" name="Freeform 57"/>
            <p:cNvSpPr/>
            <p:nvPr/>
          </p:nvSpPr>
          <p:spPr>
            <a:xfrm>
              <a:off x="15648480" y="10272240"/>
              <a:ext cx="341640" cy="24552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5" name="Freeform 58"/>
            <p:cNvSpPr/>
            <p:nvPr/>
          </p:nvSpPr>
          <p:spPr>
            <a:xfrm>
              <a:off x="15829200" y="10162800"/>
              <a:ext cx="121320" cy="694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6" name="Freeform 59"/>
            <p:cNvSpPr/>
            <p:nvPr/>
          </p:nvSpPr>
          <p:spPr>
            <a:xfrm>
              <a:off x="10171080" y="8865360"/>
              <a:ext cx="403560" cy="5364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7" name="Freeform 60"/>
            <p:cNvSpPr/>
            <p:nvPr/>
          </p:nvSpPr>
          <p:spPr>
            <a:xfrm>
              <a:off x="11918160" y="8031960"/>
              <a:ext cx="160560" cy="1627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>
              <a:off x="13011480" y="8208360"/>
              <a:ext cx="363960" cy="488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59" name="Freeform 62"/>
            <p:cNvSpPr/>
            <p:nvPr/>
          </p:nvSpPr>
          <p:spPr>
            <a:xfrm>
              <a:off x="12702240" y="8056440"/>
              <a:ext cx="236520" cy="365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0" name="Freeform 63"/>
            <p:cNvSpPr/>
            <p:nvPr/>
          </p:nvSpPr>
          <p:spPr>
            <a:xfrm>
              <a:off x="12863880" y="8349840"/>
              <a:ext cx="131040" cy="3499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1" name="Freeform 64"/>
            <p:cNvSpPr/>
            <p:nvPr/>
          </p:nvSpPr>
          <p:spPr>
            <a:xfrm>
              <a:off x="13011480" y="8715600"/>
              <a:ext cx="213480" cy="144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2" name="Freeform 65"/>
            <p:cNvSpPr/>
            <p:nvPr/>
          </p:nvSpPr>
          <p:spPr>
            <a:xfrm>
              <a:off x="13353120" y="8462160"/>
              <a:ext cx="272520" cy="31212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3" name="Freeform 66"/>
            <p:cNvSpPr/>
            <p:nvPr/>
          </p:nvSpPr>
          <p:spPr>
            <a:xfrm>
              <a:off x="13260960" y="7346160"/>
              <a:ext cx="72000" cy="1893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4" name="Freeform 67"/>
            <p:cNvSpPr/>
            <p:nvPr/>
          </p:nvSpPr>
          <p:spPr>
            <a:xfrm>
              <a:off x="13307040" y="7664040"/>
              <a:ext cx="200160" cy="3146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5" name="Freeform 68"/>
            <p:cNvSpPr/>
            <p:nvPr/>
          </p:nvSpPr>
          <p:spPr>
            <a:xfrm>
              <a:off x="13447800" y="8079840"/>
              <a:ext cx="210600" cy="2109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6" name="Freeform 69"/>
            <p:cNvSpPr/>
            <p:nvPr/>
          </p:nvSpPr>
          <p:spPr>
            <a:xfrm>
              <a:off x="13698000" y="8456400"/>
              <a:ext cx="94320" cy="1306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7" name="Freeform 70"/>
            <p:cNvSpPr/>
            <p:nvPr/>
          </p:nvSpPr>
          <p:spPr>
            <a:xfrm>
              <a:off x="13645080" y="8675640"/>
              <a:ext cx="58680" cy="45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8" name="Freeform 71"/>
            <p:cNvSpPr/>
            <p:nvPr/>
          </p:nvSpPr>
          <p:spPr>
            <a:xfrm>
              <a:off x="13733640" y="8649000"/>
              <a:ext cx="147960" cy="986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69" name="Freeform 72"/>
            <p:cNvSpPr/>
            <p:nvPr/>
          </p:nvSpPr>
          <p:spPr>
            <a:xfrm>
              <a:off x="13960080" y="8835480"/>
              <a:ext cx="78840" cy="88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0" name="Freeform 73"/>
            <p:cNvSpPr/>
            <p:nvPr/>
          </p:nvSpPr>
          <p:spPr>
            <a:xfrm>
              <a:off x="14837400" y="8723520"/>
              <a:ext cx="150840" cy="1252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1" name="Freeform 74"/>
            <p:cNvSpPr/>
            <p:nvPr/>
          </p:nvSpPr>
          <p:spPr>
            <a:xfrm>
              <a:off x="13533480" y="8880840"/>
              <a:ext cx="150840" cy="133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2" name="Freeform 75"/>
            <p:cNvSpPr/>
            <p:nvPr/>
          </p:nvSpPr>
          <p:spPr>
            <a:xfrm>
              <a:off x="13372560" y="8931960"/>
              <a:ext cx="104760" cy="72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3" name="Freeform 76"/>
            <p:cNvSpPr/>
            <p:nvPr/>
          </p:nvSpPr>
          <p:spPr>
            <a:xfrm>
              <a:off x="13303440" y="8854200"/>
              <a:ext cx="78840" cy="828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4" name="Freeform 77"/>
            <p:cNvSpPr/>
            <p:nvPr/>
          </p:nvSpPr>
          <p:spPr>
            <a:xfrm>
              <a:off x="13415040" y="8884080"/>
              <a:ext cx="111600" cy="6408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5" name="Freeform 78"/>
            <p:cNvSpPr/>
            <p:nvPr/>
          </p:nvSpPr>
          <p:spPr>
            <a:xfrm>
              <a:off x="13254120" y="7997760"/>
              <a:ext cx="88560" cy="1465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6" name="Freeform 79"/>
            <p:cNvSpPr/>
            <p:nvPr/>
          </p:nvSpPr>
          <p:spPr>
            <a:xfrm>
              <a:off x="13421520" y="7973280"/>
              <a:ext cx="62280" cy="1468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7" name="Freeform 80"/>
            <p:cNvSpPr/>
            <p:nvPr/>
          </p:nvSpPr>
          <p:spPr>
            <a:xfrm>
              <a:off x="13493880" y="7927920"/>
              <a:ext cx="32760" cy="66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8" name="Freeform 81"/>
            <p:cNvSpPr/>
            <p:nvPr/>
          </p:nvSpPr>
          <p:spPr>
            <a:xfrm>
              <a:off x="13526640" y="7959960"/>
              <a:ext cx="69120" cy="128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79" name="Freeform 82"/>
            <p:cNvSpPr/>
            <p:nvPr/>
          </p:nvSpPr>
          <p:spPr>
            <a:xfrm>
              <a:off x="12643560" y="8144280"/>
              <a:ext cx="39240" cy="72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0" name="Freeform 83"/>
            <p:cNvSpPr/>
            <p:nvPr/>
          </p:nvSpPr>
          <p:spPr>
            <a:xfrm>
              <a:off x="12610800" y="80830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1" name="Freeform 84"/>
            <p:cNvSpPr/>
            <p:nvPr/>
          </p:nvSpPr>
          <p:spPr>
            <a:xfrm>
              <a:off x="12597120" y="8035200"/>
              <a:ext cx="39240" cy="367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2" name="Freeform 85"/>
            <p:cNvSpPr/>
            <p:nvPr/>
          </p:nvSpPr>
          <p:spPr>
            <a:xfrm>
              <a:off x="12557880" y="7927920"/>
              <a:ext cx="3636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3" name="Freeform 86"/>
            <p:cNvSpPr/>
            <p:nvPr/>
          </p:nvSpPr>
          <p:spPr>
            <a:xfrm>
              <a:off x="12564360" y="7994520"/>
              <a:ext cx="52560" cy="349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4" name="Freeform 87"/>
            <p:cNvSpPr/>
            <p:nvPr/>
          </p:nvSpPr>
          <p:spPr>
            <a:xfrm>
              <a:off x="15310080" y="9658440"/>
              <a:ext cx="147240" cy="1598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5" name="Freeform 88"/>
            <p:cNvSpPr/>
            <p:nvPr/>
          </p:nvSpPr>
          <p:spPr>
            <a:xfrm>
              <a:off x="16068240" y="9527760"/>
              <a:ext cx="174240" cy="1220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6" name="Freeform 89"/>
            <p:cNvSpPr/>
            <p:nvPr/>
          </p:nvSpPr>
          <p:spPr>
            <a:xfrm>
              <a:off x="15543360" y="9460440"/>
              <a:ext cx="55800" cy="615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7" name="Freeform 90"/>
            <p:cNvSpPr/>
            <p:nvPr/>
          </p:nvSpPr>
          <p:spPr>
            <a:xfrm>
              <a:off x="15517440" y="9401760"/>
              <a:ext cx="65520" cy="45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8" name="Freeform 91"/>
            <p:cNvSpPr/>
            <p:nvPr/>
          </p:nvSpPr>
          <p:spPr>
            <a:xfrm>
              <a:off x="15014520" y="8884080"/>
              <a:ext cx="78840" cy="87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89" name="Freeform 92"/>
            <p:cNvSpPr/>
            <p:nvPr/>
          </p:nvSpPr>
          <p:spPr>
            <a:xfrm>
              <a:off x="15126480" y="8998560"/>
              <a:ext cx="84600" cy="88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0" name="Freeform 93"/>
            <p:cNvSpPr/>
            <p:nvPr/>
          </p:nvSpPr>
          <p:spPr>
            <a:xfrm>
              <a:off x="15215040" y="9166680"/>
              <a:ext cx="91440" cy="748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1" name="Freeform 94"/>
            <p:cNvSpPr/>
            <p:nvPr/>
          </p:nvSpPr>
          <p:spPr>
            <a:xfrm>
              <a:off x="15326640" y="9140040"/>
              <a:ext cx="91440" cy="694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2" name="Freeform 95"/>
            <p:cNvSpPr/>
            <p:nvPr/>
          </p:nvSpPr>
          <p:spPr>
            <a:xfrm>
              <a:off x="15293880" y="9043920"/>
              <a:ext cx="84600" cy="53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3" name="Freeform 96"/>
            <p:cNvSpPr/>
            <p:nvPr/>
          </p:nvSpPr>
          <p:spPr>
            <a:xfrm>
              <a:off x="15208200" y="8977320"/>
              <a:ext cx="85320" cy="932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4" name="Freeform 97"/>
            <p:cNvSpPr/>
            <p:nvPr/>
          </p:nvSpPr>
          <p:spPr>
            <a:xfrm>
              <a:off x="15103080" y="8934840"/>
              <a:ext cx="78840" cy="687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5" name="Freeform 98"/>
            <p:cNvSpPr/>
            <p:nvPr/>
          </p:nvSpPr>
          <p:spPr>
            <a:xfrm>
              <a:off x="15234120" y="9075960"/>
              <a:ext cx="78840" cy="694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6" name="Freeform 99"/>
            <p:cNvSpPr/>
            <p:nvPr/>
          </p:nvSpPr>
          <p:spPr>
            <a:xfrm>
              <a:off x="9947520" y="5407200"/>
              <a:ext cx="462240" cy="288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7" name="Freeform 100"/>
            <p:cNvSpPr/>
            <p:nvPr/>
          </p:nvSpPr>
          <p:spPr>
            <a:xfrm>
              <a:off x="10223280" y="5685120"/>
              <a:ext cx="131760" cy="32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8" name="Freeform 101"/>
            <p:cNvSpPr/>
            <p:nvPr/>
          </p:nvSpPr>
          <p:spPr>
            <a:xfrm>
              <a:off x="10896480" y="5268600"/>
              <a:ext cx="137520" cy="74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99" name="Freeform 102"/>
            <p:cNvSpPr/>
            <p:nvPr/>
          </p:nvSpPr>
          <p:spPr>
            <a:xfrm>
              <a:off x="10994760" y="5303160"/>
              <a:ext cx="164520" cy="53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0" name="Freeform 103"/>
            <p:cNvSpPr/>
            <p:nvPr/>
          </p:nvSpPr>
          <p:spPr>
            <a:xfrm>
              <a:off x="11172600" y="5311440"/>
              <a:ext cx="163800" cy="853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1" name="Freeform 104"/>
            <p:cNvSpPr/>
            <p:nvPr/>
          </p:nvSpPr>
          <p:spPr>
            <a:xfrm>
              <a:off x="12318840" y="5383800"/>
              <a:ext cx="288720" cy="82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2" name="Freeform 105"/>
            <p:cNvSpPr/>
            <p:nvPr/>
          </p:nvSpPr>
          <p:spPr>
            <a:xfrm>
              <a:off x="12613680" y="5380560"/>
              <a:ext cx="150840" cy="640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3" name="Freeform 106"/>
            <p:cNvSpPr/>
            <p:nvPr/>
          </p:nvSpPr>
          <p:spPr>
            <a:xfrm>
              <a:off x="12545280" y="5458320"/>
              <a:ext cx="121320" cy="453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4" name="Freeform 107"/>
            <p:cNvSpPr/>
            <p:nvPr/>
          </p:nvSpPr>
          <p:spPr>
            <a:xfrm>
              <a:off x="13372560" y="6056280"/>
              <a:ext cx="249120" cy="304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5" name="Freeform 108"/>
            <p:cNvSpPr/>
            <p:nvPr/>
          </p:nvSpPr>
          <p:spPr>
            <a:xfrm>
              <a:off x="13572720" y="6371280"/>
              <a:ext cx="180720" cy="2080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6" name="Freeform 109"/>
            <p:cNvSpPr/>
            <p:nvPr/>
          </p:nvSpPr>
          <p:spPr>
            <a:xfrm>
              <a:off x="13454280" y="6585120"/>
              <a:ext cx="358200" cy="504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7" name="Freeform 110"/>
            <p:cNvSpPr/>
            <p:nvPr/>
          </p:nvSpPr>
          <p:spPr>
            <a:xfrm>
              <a:off x="9970560" y="5239440"/>
              <a:ext cx="170280" cy="799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8" name="Freeform 111"/>
            <p:cNvSpPr/>
            <p:nvPr/>
          </p:nvSpPr>
          <p:spPr>
            <a:xfrm>
              <a:off x="9619200" y="5263200"/>
              <a:ext cx="62280" cy="586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09" name="Freeform 112"/>
            <p:cNvSpPr/>
            <p:nvPr/>
          </p:nvSpPr>
          <p:spPr>
            <a:xfrm>
              <a:off x="9698040" y="5260680"/>
              <a:ext cx="121320" cy="72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0" name="Freeform 113"/>
            <p:cNvSpPr/>
            <p:nvPr/>
          </p:nvSpPr>
          <p:spPr>
            <a:xfrm>
              <a:off x="9898560" y="5236560"/>
              <a:ext cx="65520" cy="42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1" name="Freeform 114"/>
            <p:cNvSpPr/>
            <p:nvPr/>
          </p:nvSpPr>
          <p:spPr>
            <a:xfrm>
              <a:off x="9838800" y="5284440"/>
              <a:ext cx="48960" cy="349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2" name="Freeform 115"/>
            <p:cNvSpPr/>
            <p:nvPr/>
          </p:nvSpPr>
          <p:spPr>
            <a:xfrm>
              <a:off x="13582440" y="5327280"/>
              <a:ext cx="59400" cy="88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3" name="Freeform 116"/>
            <p:cNvSpPr/>
            <p:nvPr/>
          </p:nvSpPr>
          <p:spPr>
            <a:xfrm>
              <a:off x="10679760" y="9204480"/>
              <a:ext cx="101880" cy="4752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4" name="Freeform 117"/>
            <p:cNvSpPr/>
            <p:nvPr/>
          </p:nvSpPr>
          <p:spPr>
            <a:xfrm>
              <a:off x="10810800" y="918540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5" name="Freeform 118"/>
            <p:cNvSpPr/>
            <p:nvPr/>
          </p:nvSpPr>
          <p:spPr>
            <a:xfrm>
              <a:off x="10591200" y="877428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10788480" y="8579520"/>
              <a:ext cx="35640" cy="5076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7" name="Freeform 120"/>
            <p:cNvSpPr/>
            <p:nvPr/>
          </p:nvSpPr>
          <p:spPr>
            <a:xfrm>
              <a:off x="10709280" y="8577000"/>
              <a:ext cx="35640" cy="50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8" name="Freeform 121"/>
            <p:cNvSpPr/>
            <p:nvPr/>
          </p:nvSpPr>
          <p:spPr>
            <a:xfrm>
              <a:off x="10672920" y="86356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19" name="Freeform 122"/>
            <p:cNvSpPr/>
            <p:nvPr/>
          </p:nvSpPr>
          <p:spPr>
            <a:xfrm>
              <a:off x="10591200" y="8726760"/>
              <a:ext cx="2952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0" name="Freeform 123"/>
            <p:cNvSpPr/>
            <p:nvPr/>
          </p:nvSpPr>
          <p:spPr>
            <a:xfrm>
              <a:off x="10653480" y="8691480"/>
              <a:ext cx="3276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1" name="Freeform 124"/>
            <p:cNvSpPr/>
            <p:nvPr/>
          </p:nvSpPr>
          <p:spPr>
            <a:xfrm>
              <a:off x="8245800" y="6053400"/>
              <a:ext cx="33480" cy="40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Freeform 125"/>
            <p:cNvSpPr/>
            <p:nvPr/>
          </p:nvSpPr>
          <p:spPr>
            <a:xfrm>
              <a:off x="8045640" y="5963040"/>
              <a:ext cx="334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Freeform 126"/>
            <p:cNvSpPr/>
            <p:nvPr/>
          </p:nvSpPr>
          <p:spPr>
            <a:xfrm>
              <a:off x="7264440" y="5383800"/>
              <a:ext cx="6764760" cy="4389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24" name="Text Box 127"/>
          <p:cNvSpPr/>
          <p:nvPr/>
        </p:nvSpPr>
        <p:spPr>
          <a:xfrm>
            <a:off x="2171880" y="5137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308628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6" name="Text Box 129"/>
          <p:cNvSpPr/>
          <p:nvPr/>
        </p:nvSpPr>
        <p:spPr>
          <a:xfrm>
            <a:off x="2171880" y="61848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308628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8" name="Text Box 131"/>
          <p:cNvSpPr/>
          <p:nvPr/>
        </p:nvSpPr>
        <p:spPr>
          <a:xfrm>
            <a:off x="2171880" y="763920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8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308628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0" name="Text Box 133"/>
          <p:cNvSpPr/>
          <p:nvPr/>
        </p:nvSpPr>
        <p:spPr>
          <a:xfrm>
            <a:off x="2171880" y="90615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308628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2" name="Text Box 135"/>
          <p:cNvSpPr/>
          <p:nvPr/>
        </p:nvSpPr>
        <p:spPr>
          <a:xfrm>
            <a:off x="2171880" y="1012176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308628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4" name="Text Box 137"/>
          <p:cNvSpPr/>
          <p:nvPr/>
        </p:nvSpPr>
        <p:spPr>
          <a:xfrm>
            <a:off x="2171880" y="11204640"/>
            <a:ext cx="898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308628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139"/>
          <p:cNvSpPr/>
          <p:nvPr/>
        </p:nvSpPr>
        <p:spPr>
          <a:xfrm flipV="1">
            <a:off x="2114640" y="604800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Line 140"/>
          <p:cNvSpPr/>
          <p:nvPr/>
        </p:nvSpPr>
        <p:spPr>
          <a:xfrm flipV="1">
            <a:off x="2114640" y="7495920"/>
            <a:ext cx="429552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Line 141"/>
          <p:cNvSpPr/>
          <p:nvPr/>
        </p:nvSpPr>
        <p:spPr>
          <a:xfrm flipV="1">
            <a:off x="2114640" y="8918640"/>
            <a:ext cx="429552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142"/>
          <p:cNvSpPr/>
          <p:nvPr/>
        </p:nvSpPr>
        <p:spPr>
          <a:xfrm flipV="1">
            <a:off x="2114640" y="998172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Line 143"/>
          <p:cNvSpPr/>
          <p:nvPr/>
        </p:nvSpPr>
        <p:spPr>
          <a:xfrm flipV="1">
            <a:off x="2114640" y="11077200"/>
            <a:ext cx="429552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Text Box 144"/>
          <p:cNvSpPr/>
          <p:nvPr/>
        </p:nvSpPr>
        <p:spPr>
          <a:xfrm>
            <a:off x="699444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78930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Text Box 146"/>
          <p:cNvSpPr/>
          <p:nvPr/>
        </p:nvSpPr>
        <p:spPr>
          <a:xfrm>
            <a:off x="699444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790884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5" name="Text Box 148"/>
          <p:cNvSpPr/>
          <p:nvPr/>
        </p:nvSpPr>
        <p:spPr>
          <a:xfrm>
            <a:off x="699444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9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790884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7" name="Text Box 150"/>
          <p:cNvSpPr/>
          <p:nvPr/>
        </p:nvSpPr>
        <p:spPr>
          <a:xfrm>
            <a:off x="699444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790884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9" name="Text Box 152"/>
          <p:cNvSpPr/>
          <p:nvPr/>
        </p:nvSpPr>
        <p:spPr>
          <a:xfrm>
            <a:off x="699444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4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790884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1" name="Text Box 154"/>
          <p:cNvSpPr/>
          <p:nvPr/>
        </p:nvSpPr>
        <p:spPr>
          <a:xfrm>
            <a:off x="699444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790884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Line 156"/>
          <p:cNvSpPr/>
          <p:nvPr/>
        </p:nvSpPr>
        <p:spPr>
          <a:xfrm flipV="1">
            <a:off x="7089840" y="604800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Line 157"/>
          <p:cNvSpPr/>
          <p:nvPr/>
        </p:nvSpPr>
        <p:spPr>
          <a:xfrm flipV="1">
            <a:off x="7089840" y="7495920"/>
            <a:ext cx="429876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5" name="Line 158"/>
          <p:cNvSpPr/>
          <p:nvPr/>
        </p:nvSpPr>
        <p:spPr>
          <a:xfrm flipV="1">
            <a:off x="7089840" y="8918640"/>
            <a:ext cx="429876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6" name="Line 159"/>
          <p:cNvSpPr/>
          <p:nvPr/>
        </p:nvSpPr>
        <p:spPr>
          <a:xfrm flipV="1">
            <a:off x="7089840" y="998172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7" name="Line 160"/>
          <p:cNvSpPr/>
          <p:nvPr/>
        </p:nvSpPr>
        <p:spPr>
          <a:xfrm flipV="1">
            <a:off x="7089840" y="11077200"/>
            <a:ext cx="429876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8" name="Text Box 161"/>
          <p:cNvSpPr/>
          <p:nvPr/>
        </p:nvSpPr>
        <p:spPr>
          <a:xfrm>
            <a:off x="12049200" y="5137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12963600" y="50799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0" name="Text Box 163"/>
          <p:cNvSpPr/>
          <p:nvPr/>
        </p:nvSpPr>
        <p:spPr>
          <a:xfrm>
            <a:off x="12049200" y="61848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10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12963600" y="612792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2" name="Text Box 165"/>
          <p:cNvSpPr/>
          <p:nvPr/>
        </p:nvSpPr>
        <p:spPr>
          <a:xfrm>
            <a:off x="12049200" y="763920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6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12963600" y="7581960"/>
            <a:ext cx="3203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4" name="Text Box 167"/>
          <p:cNvSpPr/>
          <p:nvPr/>
        </p:nvSpPr>
        <p:spPr>
          <a:xfrm>
            <a:off x="12049200" y="90615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5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12963600" y="90010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6" name="Text Box 169"/>
          <p:cNvSpPr/>
          <p:nvPr/>
        </p:nvSpPr>
        <p:spPr>
          <a:xfrm>
            <a:off x="12049200" y="1012176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3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12963600" y="1010268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8" name="Text Box 171"/>
          <p:cNvSpPr/>
          <p:nvPr/>
        </p:nvSpPr>
        <p:spPr>
          <a:xfrm>
            <a:off x="12049200" y="11204640"/>
            <a:ext cx="8985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  <a:ea typeface="Arial"/>
              </a:rPr>
              <a:t>01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12947760" y="11198160"/>
            <a:ext cx="32036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Your text in here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0" name="Line 173"/>
          <p:cNvSpPr/>
          <p:nvPr/>
        </p:nvSpPr>
        <p:spPr>
          <a:xfrm flipV="1">
            <a:off x="12163320" y="604800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1" name="Line 174"/>
          <p:cNvSpPr/>
          <p:nvPr/>
        </p:nvSpPr>
        <p:spPr>
          <a:xfrm flipV="1">
            <a:off x="12163320" y="7495920"/>
            <a:ext cx="4295880" cy="284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2" name="Line 175"/>
          <p:cNvSpPr/>
          <p:nvPr/>
        </p:nvSpPr>
        <p:spPr>
          <a:xfrm flipV="1">
            <a:off x="12163320" y="8918640"/>
            <a:ext cx="4295880" cy="252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3" name="Line 176"/>
          <p:cNvSpPr/>
          <p:nvPr/>
        </p:nvSpPr>
        <p:spPr>
          <a:xfrm flipV="1">
            <a:off x="12163320" y="998172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74" name="Line 177"/>
          <p:cNvSpPr/>
          <p:nvPr/>
        </p:nvSpPr>
        <p:spPr>
          <a:xfrm flipV="1">
            <a:off x="12163320" y="11077200"/>
            <a:ext cx="4295880" cy="2556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75" name="Group 178"/>
          <p:cNvGrpSpPr/>
          <p:nvPr/>
        </p:nvGrpSpPr>
        <p:grpSpPr>
          <a:xfrm>
            <a:off x="6858000" y="4813200"/>
            <a:ext cx="4774680" cy="7530480"/>
            <a:chOff x="6858000" y="4813200"/>
            <a:chExt cx="4774680" cy="7530480"/>
          </a:xfrm>
        </p:grpSpPr>
        <p:sp>
          <p:nvSpPr>
            <p:cNvPr id="376" name="Rectangle 179"/>
            <p:cNvSpPr/>
            <p:nvPr/>
          </p:nvSpPr>
          <p:spPr>
            <a:xfrm>
              <a:off x="6858000" y="12215160"/>
              <a:ext cx="4774680" cy="12852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7" name="Line 180"/>
            <p:cNvSpPr/>
            <p:nvPr/>
          </p:nvSpPr>
          <p:spPr>
            <a:xfrm>
              <a:off x="685800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8" name="Group 181"/>
          <p:cNvGrpSpPr/>
          <p:nvPr/>
        </p:nvGrpSpPr>
        <p:grpSpPr>
          <a:xfrm>
            <a:off x="11909520" y="4813200"/>
            <a:ext cx="4777920" cy="7530480"/>
            <a:chOff x="11909520" y="4813200"/>
            <a:chExt cx="4777920" cy="7530480"/>
          </a:xfrm>
        </p:grpSpPr>
        <p:sp>
          <p:nvSpPr>
            <p:cNvPr id="379" name="Rectangle 182"/>
            <p:cNvSpPr/>
            <p:nvPr/>
          </p:nvSpPr>
          <p:spPr>
            <a:xfrm>
              <a:off x="11909520" y="12215160"/>
              <a:ext cx="4777920" cy="12852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Line 183"/>
            <p:cNvSpPr/>
            <p:nvPr/>
          </p:nvSpPr>
          <p:spPr>
            <a:xfrm>
              <a:off x="11909520" y="4813200"/>
              <a:ext cx="0" cy="7518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81" name="Rectangle 184"/>
          <p:cNvSpPr/>
          <p:nvPr/>
        </p:nvSpPr>
        <p:spPr>
          <a:xfrm>
            <a:off x="193068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6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2" name="Rectangle 185"/>
          <p:cNvSpPr/>
          <p:nvPr/>
        </p:nvSpPr>
        <p:spPr>
          <a:xfrm>
            <a:off x="691560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7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3" name="Rectangle 186"/>
          <p:cNvSpPr/>
          <p:nvPr/>
        </p:nvSpPr>
        <p:spPr>
          <a:xfrm>
            <a:off x="11982960" y="3838680"/>
            <a:ext cx="17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4800" spc="-1" strike="noStrike">
                <a:solidFill>
                  <a:srgbClr val="feffff"/>
                </a:solidFill>
                <a:latin typeface="Arial"/>
                <a:ea typeface="Arial"/>
              </a:rPr>
              <a:t>2008</a:t>
            </a:r>
            <a:endParaRPr b="0" lang="en-US" sz="4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4" name="Rectangle 187"/>
          <p:cNvSpPr/>
          <p:nvPr/>
        </p:nvSpPr>
        <p:spPr>
          <a:xfrm>
            <a:off x="349344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5" name="Rectangle 188"/>
          <p:cNvSpPr/>
          <p:nvPr/>
        </p:nvSpPr>
        <p:spPr>
          <a:xfrm>
            <a:off x="849420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86" name="Rectangle 189"/>
          <p:cNvSpPr/>
          <p:nvPr/>
        </p:nvSpPr>
        <p:spPr>
          <a:xfrm>
            <a:off x="13561560" y="3965400"/>
            <a:ext cx="2931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i="1" lang="en-US" sz="36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7640" y="479160"/>
            <a:ext cx="15548040" cy="1377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.VnMystical"/>
              </a:rPr>
              <a:t>Click to edit title style</a:t>
            </a:r>
            <a:endParaRPr b="1" lang="en-US" sz="8800" spc="-1" strike="noStrike">
              <a:solidFill>
                <a:srgbClr val="000000"/>
              </a:solidFill>
              <a:latin typeface=".VnMystic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0701000" y="4584960"/>
            <a:ext cx="6963120" cy="6963840"/>
            <a:chOff x="10701000" y="4584960"/>
            <a:chExt cx="6963120" cy="6963840"/>
          </a:xfrm>
        </p:grpSpPr>
        <p:sp>
          <p:nvSpPr>
            <p:cNvPr id="389" name="AutoShape 4"/>
            <p:cNvSpPr/>
            <p:nvPr/>
          </p:nvSpPr>
          <p:spPr>
            <a:xfrm rot="16054200">
              <a:off x="10839240" y="472392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599" y="6958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5950"/>
                </a:gs>
                <a:gs pos="50000">
                  <a:srgbClr val="8c9484"/>
                </a:gs>
                <a:gs pos="100000">
                  <a:srgbClr val="555950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rot="10800000">
              <a:off x="10839600" y="472392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614f3c"/>
                </a:gs>
                <a:gs pos="50000">
                  <a:srgbClr val="a18363"/>
                </a:gs>
                <a:gs pos="100000">
                  <a:srgbClr val="614f3c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rot="5400000">
              <a:off x="10839240" y="4724280"/>
              <a:ext cx="6686280" cy="6685920"/>
            </a:xfrm>
            <a:custGeom>
              <a:avLst/>
              <a:gdLst>
                <a:gd name="textAreaLeft" fmla="*/ 977760 w 6686280"/>
                <a:gd name="textAreaRight" fmla="*/ 5708520 w 6686280"/>
                <a:gd name="textAreaTop" fmla="*/ 977760 h 6685920"/>
                <a:gd name="textAreaBottom" fmla="*/ 5708160 h 66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599" y="7011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14d68"/>
                </a:gs>
                <a:gs pos="50000">
                  <a:srgbClr val="6b7fad"/>
                </a:gs>
                <a:gs pos="100000">
                  <a:srgbClr val="414d68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0839600" y="4724280"/>
              <a:ext cx="6685920" cy="6686280"/>
            </a:xfrm>
            <a:custGeom>
              <a:avLst/>
              <a:gdLst>
                <a:gd name="textAreaLeft" fmla="*/ 977760 w 6685920"/>
                <a:gd name="textAreaRight" fmla="*/ 5708160 w 6685920"/>
                <a:gd name="textAreaTop" fmla="*/ 977760 h 6686280"/>
                <a:gd name="textAreaBottom" fmla="*/ 5708520 h 66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644345"/>
                </a:gs>
                <a:gs pos="50000">
                  <a:srgbClr val="a56f73"/>
                </a:gs>
                <a:gs pos="100000">
                  <a:srgbClr val="644345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93" name="Text Box 8"/>
          <p:cNvSpPr/>
          <p:nvPr/>
        </p:nvSpPr>
        <p:spPr>
          <a:xfrm>
            <a:off x="12754080" y="7556400"/>
            <a:ext cx="295884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1117440" y="42037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8c9484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c9484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1130400" y="487692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1117440" y="621648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56f7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6f7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130400" y="686736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1117440" y="808992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6b7fad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b7fad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1130400" y="87184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1117440" y="9941040"/>
            <a:ext cx="762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buClr>
                <a:srgbClr val="a18363"/>
              </a:buClr>
              <a:buFont typeface="Arial"/>
              <a:buChar char="•"/>
              <a:tabLst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18363"/>
                </a:solidFill>
                <a:latin typeface="Arial"/>
              </a:rPr>
              <a:t>Title in here</a:t>
            </a:r>
            <a:endParaRPr b="0" lang="en-US" sz="3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1130400" y="10547280"/>
            <a:ext cx="96804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is a Design Digital Content &amp; Contents mall developed by Guild Design Inc.</a:t>
            </a:r>
            <a:endParaRPr b="0" lang="en-US" sz="2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2" descr="Picture11"/>
          <p:cNvPicPr/>
          <p:nvPr/>
        </p:nvPicPr>
        <p:blipFill>
          <a:blip r:embed="rId1"/>
          <a:stretch/>
        </p:blipFill>
        <p:spPr>
          <a:xfrm>
            <a:off x="5943600" y="2111400"/>
            <a:ext cx="11576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49:57Z</dcterms:created>
  <dc:creator>Vietnq</dc:creator>
  <dc:description/>
  <dc:language>en-US</dc:language>
  <cp:lastModifiedBy>Nga</cp:lastModifiedBy>
  <dcterms:modified xsi:type="dcterms:W3CDTF">2017-09-15T08:55:59Z</dcterms:modified>
  <cp:revision>10</cp:revision>
  <dc:subject/>
  <dc:title>ThemeGallery PowerTemplate</dc:title>
</cp:coreProperties>
</file>